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157-C62A-4556-B10D-C1EC67F7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370-A34E-4023-A069-E9F49BC1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250-35EF-45C8-809B-4064C8CD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670-FCD0-4504-8F64-7B6926ED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00E4-9B19-440E-8F52-87CB733A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27C4-6BCE-49EE-9607-4EF9C84C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E4F-D09E-4850-A924-F1FB1CEC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15A5-8E66-4521-9C2C-08482A07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C008-E89B-4D52-8983-12B74917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5292-9853-49C5-BB78-E57BFB0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7F13-F29B-4DB6-B98E-242D827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6E7-6FA8-44A1-9F60-381D1A5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62B2-D675-4227-93CC-FCD7F104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BF5C-5E36-42DC-9FE5-49F9416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BB6C-C2B9-4197-B850-AE18CF76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063F-B11F-4238-A791-7C915BCB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0F00-FCBF-4C6E-B812-E6FBA53B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84F-3054-4851-82A7-C29C01E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6C3-B852-4D8C-8543-D69330F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008-DC97-4379-885B-9DEF1E5B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12E-76CB-42F0-8A6E-BF4886CC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F8F-C879-4B1F-AF6F-C5CA47E0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EC5-E744-408B-8639-749F60B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7C8-EE33-4D89-8ADC-FE85BBA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E53-6DDB-4AF8-B1EB-041DE92845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3455-F193-4F16-A4EB-036B0A0494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80880" y="1218960"/>
            <a:ext cx="81532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Maddy Ze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043000" cy="20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491080"/>
            <a:ext cx="1295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2514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vos revuel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76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agel con queso c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867280" y="1295280"/>
            <a:ext cx="2486160" cy="16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58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nselada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657600" y="1371600"/>
            <a:ext cx="1498680" cy="1498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21461400">
            <a:off x="54864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yog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almuerzo me gusta co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5120" y="5790960"/>
            <a:ext cx="167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g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1706400" cy="213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2971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nsal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819160" cy="1843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0532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andwich de queso a la plan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00400" y="1295280"/>
            <a:ext cx="2448000" cy="162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72200" y="3429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019920" y="1371600"/>
            <a:ext cx="1866960" cy="1917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76920" y="6019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opa de pollo con f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648320" y="3867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1747800" cy="1797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971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981080" cy="155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43200" y="3048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pa a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14600" y="1387440"/>
            <a:ext cx="2362320" cy="1720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627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judias ve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791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ziti a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234324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114800" y="36576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postre me gusta com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5562720"/>
            <a:ext cx="22100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galletas de avena y p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1549440" cy="1778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8120" y="342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 de c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743200" y="1219320"/>
            <a:ext cx="2457360" cy="2038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4360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esas cubierta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562720" y="1676520"/>
            <a:ext cx="2400120" cy="1596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8320" y="53341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astelitos de terciopelo rojo con queso crema fr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105520" y="4114800"/>
            <a:ext cx="2057400" cy="1328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44:14Z</dcterms:created>
  <dc:creator>zeliffmad</dc:creator>
  <dc:description/>
  <dc:language>en-US</dc:language>
  <cp:lastModifiedBy>zeliffmad</cp:lastModifiedBy>
  <dcterms:modified xsi:type="dcterms:W3CDTF">2011-04-14T14:57:11Z</dcterms:modified>
  <cp:revision>4</cp:revision>
  <dc:subject/>
  <dc:title>Las Comidas </dc:title>
</cp:coreProperties>
</file>